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55E0-2D6B-4A96-BAC3-89EF239AA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CFF0-DD98-4BE1-8557-CB6391901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A441-FD82-4175-B55D-93F947CB1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C80E-24E0-4CD5-8292-0D005C4C3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702C5-F22C-4A7F-932E-5604D3F0B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72DC1-4654-4960-AC0C-26AA0D7D1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32EAE-E85D-4FAE-98D1-D51CE201C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387F0-CFA2-492A-9BAB-71536E85D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52BC5-0436-45E4-9D5D-6C49CF498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E36A5-938C-4CDD-B582-8E6273A30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B5A43-0735-44B7-AD17-F14638F2B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0096-D4D3-4732-9C7C-5ADC68F86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9CB2F-1530-4AC3-BF3A-E61BE0402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016FA-B50C-424C-B459-949571C44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C5D7A-9F0A-407D-9280-0D5AE9CC1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89DE1-A885-4C69-9A3C-12A083C26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40A70-4EC3-478F-87BC-AAA34E8AB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F55E-6C77-4424-B334-C2F32552E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73C3-FF55-4B87-BF52-09FBA848D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F84F-493E-4D8B-88EE-AD6516F85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2A9A-3DE2-4186-97E8-33BD607C9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D713-3840-4DCF-A5A4-32359B343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5C66-391C-4D56-9437-C09B6A756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6A3B-D1FF-4E0A-9F6F-92BE3181B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90600"/>
            <a:chOff x="0" y="0"/>
            <a:chExt cx="8686800" cy="48906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21640"/>
              <a:ext cx="8305920" cy="182520"/>
              <a:chOff x="380880" y="142164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2164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796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69040"/>
            <a:ext cx="1981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6544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3977C-39DF-47CD-8DE9-3D697E64522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9096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58720"/>
            <a:chOff x="0" y="0"/>
            <a:chExt cx="8763120" cy="595872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14320"/>
              <a:ext cx="8763120" cy="2444400"/>
              <a:chOff x="0" y="3514320"/>
              <a:chExt cx="8763120" cy="244440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14320"/>
                <a:ext cx="77724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43280"/>
                <a:ext cx="764856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895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4600"/>
              <a:ext cx="8077320" cy="304920"/>
              <a:chOff x="635040" y="534600"/>
              <a:chExt cx="8077320" cy="30492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4600"/>
                <a:ext cx="243864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688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6240"/>
            <a:ext cx="6629400" cy="22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69040"/>
            <a:ext cx="1904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65440"/>
            <a:ext cx="2895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86F6C-9171-4F6E-8DD0-E0D2ACE4D06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825480" y="1577880"/>
          <a:ext cx="5118120" cy="495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5480" y="1577880"/>
                    <a:ext cx="5118120" cy="495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6920" y="343080"/>
            <a:ext cx="7417080" cy="1008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«СТРУКТУРА МУНИЦИПАЛЬНОГО ВНУТРЕННЕГО ДОЛГА НА 2018 ГОД И ПЛАНОВЫЙ ПЕРИОД 2019-2020 ГГ. (млн.руб.)»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156360" y="1638360"/>
          <a:ext cx="2232000" cy="33796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заимствований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гарантии Дальнереченского городского о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user31</cp:lastModifiedBy>
  <dcterms:modified xsi:type="dcterms:W3CDTF">2018-02-01T06:25:27Z</dcterms:modified>
  <cp:revision>40</cp:revision>
  <dc:subject/>
  <dc:title>Структура собственных доходов на 2016 год бюджета Дальнереченского городского округа</dc:title>
</cp:coreProperties>
</file>